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86724" b="0"/>
          <a:stretch/>
        </p:blipFill>
        <p:spPr>
          <a:xfrm>
            <a:off x="0" y="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86724" b="0"/>
          <a:stretch/>
        </p:blipFill>
        <p:spPr>
          <a:xfrm>
            <a:off x="0" y="9144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0" t="0" r="86724" b="0"/>
          <a:stretch/>
        </p:blipFill>
        <p:spPr>
          <a:xfrm>
            <a:off x="0" y="18288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rcRect l="0" t="0" r="86724" b="0"/>
          <a:stretch/>
        </p:blipFill>
        <p:spPr>
          <a:xfrm>
            <a:off x="0" y="27432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rcRect l="0" t="0" r="86724" b="0"/>
          <a:stretch/>
        </p:blipFill>
        <p:spPr>
          <a:xfrm>
            <a:off x="0" y="36576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rcRect l="0" t="0" r="86724" b="0"/>
          <a:stretch/>
        </p:blipFill>
        <p:spPr>
          <a:xfrm>
            <a:off x="0" y="45720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rcRect l="0" t="0" r="86724" b="0"/>
          <a:stretch/>
        </p:blipFill>
        <p:spPr>
          <a:xfrm>
            <a:off x="0" y="5486400"/>
            <a:ext cx="914400" cy="9619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rcRect l="0" t="0" r="86724" b="50037"/>
          <a:stretch/>
        </p:blipFill>
        <p:spPr>
          <a:xfrm>
            <a:off x="0" y="6377040"/>
            <a:ext cx="914400" cy="4809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352680" y="762120"/>
            <a:ext cx="34290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Gilded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Age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Politics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75248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8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22860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1881:  Garfield Assassinat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3750" t="6419" r="3750" b="9537"/>
          <a:stretch/>
        </p:blipFill>
        <p:spPr>
          <a:xfrm>
            <a:off x="1219320" y="1143000"/>
            <a:ext cx="5638680" cy="4114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29400" y="3657600"/>
            <a:ext cx="2286000" cy="2819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438280" y="5410080"/>
            <a:ext cx="4648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rles Guiteau:</a:t>
            </a:r>
            <a:br>
              <a:rPr sz="2400"/>
            </a:br>
            <a:r>
              <a:rPr b="1" i="1" lang="en-US" sz="2000" spc="-1" strike="noStrike">
                <a:solidFill>
                  <a:srgbClr val="c00000"/>
                </a:solidFill>
                <a:latin typeface="Comic Sans MS"/>
              </a:rPr>
              <a:t>I Am a Stalwart, and Arthur is President n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228600"/>
            <a:ext cx="8153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endleton Act (188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295280"/>
            <a:ext cx="39625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“Magna Carta” o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ivil service re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tandards for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xamination of applic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883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14,000 out of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17,000 federal govt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jobs became civi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ervice exam pos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900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100,000 out o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00,000 civil service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ederal govt. job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965400" cy="4038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304920"/>
            <a:ext cx="73152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1884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6000" t="3511" r="3997" b="3511"/>
          <a:stretch/>
        </p:blipFill>
        <p:spPr>
          <a:xfrm>
            <a:off x="1523880" y="1371600"/>
            <a:ext cx="3006720" cy="4038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523880" y="56386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    James Blain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EM)                              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01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1080" y="228600"/>
            <a:ext cx="6172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A Dirty Campa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81080" y="12193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3880" y="5654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Ma, Ma…where’s my pa?</a:t>
            </a:r>
            <a:br>
              <a:rPr sz="2400"/>
            </a:b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He’s going to the White House, ha… ha… ha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81080" y="39528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84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152280"/>
            <a:ext cx="7848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leveland’s First Te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349280"/>
            <a:ext cx="739152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“Veto Governor” from New Y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irst Democratic elected since 185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 public office is a public trus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is laissez-faire presidenc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pposed bills to assist the poor a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ll as the ri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etoed over 200 special pension bill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 Civil War vetera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228600"/>
            <a:ext cx="8001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Bravo, Señor Cleveland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6096240" cy="5338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152280"/>
            <a:ext cx="7848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he Tariff Iss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129528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fter the Civil War, Congress raise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riffs to protect new US indus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ig business wanted to continue thi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sumers did n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885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ariffs earned the US $100 mil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in surplu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esident Cleveland’s view on tariffs</a:t>
            </a:r>
            <a:r>
              <a:rPr b="1" lang="en-US" sz="2600" spc="-1" strike="noStrike">
                <a:solidFill>
                  <a:srgbClr val="e40000"/>
                </a:solidFill>
                <a:latin typeface="Comic Sans MS"/>
              </a:rPr>
              <a:t>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624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riffs became a major issue in the 1888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esidential 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76320"/>
            <a:ext cx="8305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333399"/>
                </a:solidFill>
                <a:latin typeface="Comic Sans MS"/>
              </a:rPr>
              <a:t>Filing the Rough Edg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971800" y="990720"/>
            <a:ext cx="4002120" cy="513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447920" y="6172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riff of 18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95280" y="30492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1888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6000" t="0" r="3997" b="0"/>
          <a:stretch/>
        </p:blipFill>
        <p:spPr>
          <a:xfrm>
            <a:off x="1600200" y="1295280"/>
            <a:ext cx="3006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033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600200" y="5715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Benjamin Harris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DEM)                           </a:t>
            </a:r>
            <a:r>
              <a:rPr b="1" lang="en-US" sz="2000" spc="-1" strike="noStrike">
                <a:solidFill>
                  <a:srgbClr val="e4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e40000"/>
                </a:solidFill>
                <a:latin typeface="Comic Sans MS"/>
              </a:rPr>
              <a:t>*</a:t>
            </a:r>
            <a:r>
              <a:rPr b="1" lang="en-US" sz="2000" spc="-1" strike="noStrike">
                <a:solidFill>
                  <a:srgbClr val="e4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666880" y="1219320"/>
            <a:ext cx="45720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The 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"Politics of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e4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tageCoach"/>
              </a:rPr>
              <a:t>Equilibrium"</a:t>
            </a:r>
            <a:endParaRPr b="0" lang="en-US" sz="2400" spc="1" strike="noStrike">
              <a:ln w="22320">
                <a:solidFill>
                  <a:srgbClr val="e4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tageCoach"/>
              <a:ea typeface="StageCoa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152280"/>
            <a:ext cx="8153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Coming Out for Har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3880" y="1066680"/>
            <a:ext cx="6934320" cy="5437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395280"/>
            <a:ext cx="79246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88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304920"/>
            <a:ext cx="7696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Disposing the Surpl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38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152280"/>
            <a:ext cx="8001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hanging Public Opin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143000"/>
            <a:ext cx="77724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ericans wanted the federal govt. to de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th growing social &amp; economic problems &amp; to curb the power of the tru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state Commerce Act – 18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erman Antitrust Act –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cKinley Tariff – 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284040">
              <a:lnSpc>
                <a:spcPct val="100000"/>
              </a:lnSpc>
              <a:spcBef>
                <a:spcPts val="1500"/>
              </a:spcBef>
              <a:buClr>
                <a:srgbClr val="e4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d on the theory that prosper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owed directly from protectio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284040">
              <a:lnSpc>
                <a:spcPct val="100000"/>
              </a:lnSpc>
              <a:spcBef>
                <a:spcPts val="1500"/>
              </a:spcBef>
              <a:buClr>
                <a:srgbClr val="e4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creased already high rates another 4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p. Party suffered big losses in 1890 (ev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cKinley lost his House seat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30492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1892 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6000" t="0" r="3997" b="0"/>
          <a:stretch/>
        </p:blipFill>
        <p:spPr>
          <a:xfrm>
            <a:off x="1600200" y="1295280"/>
            <a:ext cx="3006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033720" cy="434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600200" y="5715000"/>
            <a:ext cx="7162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ver Cleveland     Benjamin Harris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again! </a:t>
            </a:r>
            <a:r>
              <a:rPr b="1" lang="en-US" sz="2400" spc="-1" strike="noStrike">
                <a:solidFill>
                  <a:srgbClr val="e40000"/>
                </a:solidFill>
                <a:latin typeface="Comic Sans MS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DEM)                         (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57400" y="47160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92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696080" cy="413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15228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eveland Loses Support Fa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14300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President to serve two non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ecutive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amed for the 1893 Pa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ended the gold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d federal troops in the 189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llman str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ealed the Sherman Silver Purchase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7920" y="304920"/>
            <a:ext cx="746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1.  A Two-Party Stale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6000"/>
          </a:blip>
          <a:srcRect l="16974" t="0" r="18137" b="0"/>
          <a:stretch/>
        </p:blipFill>
        <p:spPr>
          <a:xfrm>
            <a:off x="2430360" y="1295280"/>
            <a:ext cx="511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152280"/>
            <a:ext cx="7772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wo-Party “Balanc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19520" y="1143000"/>
            <a:ext cx="4422600" cy="538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43400" y="304920"/>
            <a:ext cx="449568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2.  Intense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Voter Loyalty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o the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wo Major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olitical Pa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contrast="6000"/>
          </a:blip>
          <a:srcRect l="0" t="0" r="0" b="12499"/>
          <a:stretch/>
        </p:blipFill>
        <p:spPr>
          <a:xfrm>
            <a:off x="1219320" y="304920"/>
            <a:ext cx="3206520" cy="6324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6680" y="304920"/>
            <a:ext cx="7848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3.  Well-Defined Voting Bl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1447920"/>
            <a:ext cx="1981080" cy="91440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17819" dir="2700000" blurRad="0" rotWithShape="0">
              <a:srgbClr val="72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mocratic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447920"/>
            <a:ext cx="1981440" cy="9144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publica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362320"/>
            <a:ext cx="0" cy="4572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236232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819520"/>
            <a:ext cx="2819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ite southern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preservation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ite suprema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thol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cent immigra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sp. J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rban work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or (pro-lab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st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2819520"/>
            <a:ext cx="31240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rthern whi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pro-busi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frican Ame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rther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te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ld WASPs (suppor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or anti-immigra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st of the midd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0"/>
            <a:ext cx="7848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4.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Very Laissez Faire Federal Gov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1371600"/>
            <a:ext cx="70866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om 1870-1900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vt. did ver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ttle domes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 duties of the federal govt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iver the 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tain a national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lect taxes &amp; tarif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uct a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minister the annu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ivil War veterans’ p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0"/>
            <a:ext cx="7848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5. 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he Presidency as a Symbolic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595520"/>
            <a:ext cx="777240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y bosses ru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sidents shoul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offending an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tions within thei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w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President ju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nded out federal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PATRONA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1638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65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53,000 people worked for the federal go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1638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90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166,000   “       “      “   “     “      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2432" r="0" b="0"/>
          <a:stretch/>
        </p:blipFill>
        <p:spPr>
          <a:xfrm>
            <a:off x="6172200" y="1371600"/>
            <a:ext cx="2403360" cy="304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898600" y="442440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mic Sans MS"/>
              </a:rPr>
              <a:t>Senator Roscoe Conk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81080" y="0"/>
            <a:ext cx="6172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880 Presidential 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619760" cy="4093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1:39:57Z</dcterms:created>
  <dc:creator>Susan M. Pojer</dc:creator>
  <dc:description/>
  <dc:language>en-US</dc:language>
  <cp:lastModifiedBy>School District U46</cp:lastModifiedBy>
  <dcterms:modified xsi:type="dcterms:W3CDTF">2012-01-04T13:20:35Z</dcterms:modified>
  <cp:revision>142</cp:revision>
  <dc:subject/>
  <dc:title>Gilded Age Politics in America</dc:title>
</cp:coreProperties>
</file>